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93D-1D42-4FBD-802D-67B6378F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198-CBEB-40FE-8D78-92C0BCE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7A8-B58C-48B9-B79A-5A76BEBF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A9F-F317-4E59-BF40-C1D8A6BF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A772-3438-4D48-9C0D-873F8760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F2DD-0C2E-4193-85E8-9341257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BF62-F7D0-4756-8E67-903A0D4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135C-28B3-427F-B4E2-B6DAD087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8734-945A-4865-B880-16BBCFDF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95C8-1C81-4A7B-91DB-CE8D916A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BEA5-6DF4-4C33-BB28-E4C3290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A8B-08A2-48D2-A786-C91FF22F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8398-1541-43E0-B5E8-A244789B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9F4-5FB5-4911-A1AB-EAD901C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CFE-27E1-44F9-B7B5-563680B9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EC99-143C-4A50-A9CB-9671DC81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6511-7479-4418-9573-7C927C8F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478-B169-4CC3-95E2-74BAA572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EBB-51BD-4475-9F31-2640F0F0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1C2-3871-4E57-818A-AF647322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480-FB02-45B2-98EE-CDCAD71C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1CE-BE68-4ED7-A313-EE29703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E4E-A235-4B59-B967-B299B3A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71E-DAE2-4DD7-B6CE-A43820E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71D-3EC0-4CB0-9DE3-E553AE1CAA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DB8E-B070-4F6D-BDC9-9907E05CD9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Edtech2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emachine</cp:lastModifiedBy>
  <dcterms:modified xsi:type="dcterms:W3CDTF">2012-07-19T14:04:21Z</dcterms:modified>
  <cp:revision>3</cp:revision>
  <dc:subject/>
  <dc:title>Slide 1</dc:title>
</cp:coreProperties>
</file>